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C3DC-7152-4992-B3F2-47CACD034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0CEC-C011-433B-9376-3BA89427A8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CAD-5147-4A35-95D3-51443741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DE0-F3DA-4331-A5D1-9922D3D6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EAB-58F0-4BE7-BD96-624EB8E7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580-AF66-4F5D-96E6-9F03B155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9A10-5CD5-4646-B7EC-95F43CED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BE98-AAAF-4C0E-BB2E-F5AD4F9A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4905-A098-4CD7-989A-321AC84C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6482-463D-41E9-A728-52728DC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5A9B-AD3C-4F17-A1D6-9F28F29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627A-4E55-4A38-8F20-2049E10A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A710-7538-4F78-805B-E99007A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3DB-03EA-4051-A021-A49962E2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BDA9-C6B2-4F7B-882B-F189F5C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4520-9BFC-4FA3-80E6-201BAAA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5C7A-2BA5-4608-BC96-E61C4EDF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B69E-A57B-484C-979C-72A22518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7A8C-798A-443D-A52F-E4C11CA6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8EA-4329-4201-B671-8EA355A4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BCA-22A9-41B5-8400-F54C06FB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983-7741-434C-A408-0E0EE5AB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E9D-DE80-41CB-86D3-905519F9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655-962F-4475-852C-ABCEC93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F3B-BEBC-477A-8AFC-F8784977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9C7-45C7-4A6E-ABDD-5FDD44CC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F29D-36BA-4911-9FB8-9289A962CB4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24E1-306B-48A5-8D30-39863AB1C9A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048040"/>
            <a:ext cx="8242560" cy="1055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9 April 2010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Straight Connector 7"/>
          <p:cNvSpPr/>
          <p:nvPr/>
        </p:nvSpPr>
        <p:spPr>
          <a:xfrm>
            <a:off x="3749760" y="1442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9"/>
          <p:cNvSpPr/>
          <p:nvPr/>
        </p:nvSpPr>
        <p:spPr>
          <a:xfrm>
            <a:off x="3749760" y="18241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rc 10"/>
          <p:cNvSpPr/>
          <p:nvPr/>
        </p:nvSpPr>
        <p:spPr>
          <a:xfrm>
            <a:off x="3902040" y="1290600"/>
            <a:ext cx="533520" cy="685800"/>
          </a:xfrm>
          <a:custGeom>
            <a:avLst/>
            <a:gdLst>
              <a:gd name="textAreaLeft" fmla="*/ 266760 w 533520"/>
              <a:gd name="textAreaRight" fmla="*/ 533880 w 533520"/>
              <a:gd name="textAreaTop" fmla="*/ 0 h 685800"/>
              <a:gd name="textAreaBottom" fmla="*/ 685440 h 685800"/>
            </a:gdLst>
            <a:ahLst/>
            <a:rect l="textAreaLeft" t="textAreaTop" r="textAreaRight" b="textAreaBottom"/>
            <a:pathLst>
              <a:path stroke="0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  <a:lnTo>
                  <a:pt x="266700" y="342900"/>
                </a:lnTo>
                <a:close/>
              </a:path>
              <a:path fill="none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rc 13"/>
          <p:cNvSpPr/>
          <p:nvPr/>
        </p:nvSpPr>
        <p:spPr>
          <a:xfrm>
            <a:off x="3749760" y="1290600"/>
            <a:ext cx="533160" cy="685800"/>
          </a:xfrm>
          <a:custGeom>
            <a:avLst/>
            <a:gdLst>
              <a:gd name="textAreaLeft" fmla="*/ 266760 w 533160"/>
              <a:gd name="textAreaRight" fmla="*/ 533520 w 533160"/>
              <a:gd name="textAreaTop" fmla="*/ 0 h 685800"/>
              <a:gd name="textAreaBottom" fmla="*/ 685440 h 685800"/>
            </a:gdLst>
            <a:ahLst/>
            <a:rect l="textAreaLeft" t="textAreaTop" r="textAreaRight" b="textAreaBottom"/>
            <a:pathLst>
              <a:path stroke="0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  <a:lnTo>
                  <a:pt x="266700" y="342900"/>
                </a:lnTo>
                <a:close/>
              </a:path>
              <a:path fill="none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4191120" y="1278000"/>
            <a:ext cx="974520" cy="384120"/>
          </a:xfrm>
          <a:custGeom>
            <a:avLst/>
            <a:gdLst/>
            <a:ahLst/>
            <a:rect l="l" t="t" r="r" b="b"/>
            <a:pathLst>
              <a:path w="975360" h="384048">
                <a:moveTo>
                  <a:pt x="0" y="9144"/>
                </a:moveTo>
                <a:cubicBezTo>
                  <a:pt x="126492" y="4572"/>
                  <a:pt x="252984" y="0"/>
                  <a:pt x="374904" y="27432"/>
                </a:cubicBezTo>
                <a:cubicBezTo>
                  <a:pt x="496824" y="54864"/>
                  <a:pt x="637032" y="120396"/>
                  <a:pt x="731520" y="173736"/>
                </a:cubicBezTo>
                <a:cubicBezTo>
                  <a:pt x="826008" y="227076"/>
                  <a:pt x="908304" y="312420"/>
                  <a:pt x="941832" y="347472"/>
                </a:cubicBezTo>
                <a:cubicBezTo>
                  <a:pt x="975360" y="382524"/>
                  <a:pt x="928116" y="381000"/>
                  <a:pt x="932688" y="38404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17"/>
          <p:cNvSpPr/>
          <p:nvPr/>
        </p:nvSpPr>
        <p:spPr>
          <a:xfrm>
            <a:off x="4191120" y="1662120"/>
            <a:ext cx="969840" cy="339840"/>
          </a:xfrm>
          <a:custGeom>
            <a:avLst/>
            <a:gdLst/>
            <a:ahLst/>
            <a:rect l="l" t="t" r="r" b="b"/>
            <a:pathLst>
              <a:path w="969264" h="339852">
                <a:moveTo>
                  <a:pt x="0" y="320040"/>
                </a:moveTo>
                <a:cubicBezTo>
                  <a:pt x="125730" y="329946"/>
                  <a:pt x="251460" y="339852"/>
                  <a:pt x="374904" y="320040"/>
                </a:cubicBezTo>
                <a:cubicBezTo>
                  <a:pt x="498348" y="300228"/>
                  <a:pt x="641604" y="254508"/>
                  <a:pt x="740664" y="201168"/>
                </a:cubicBezTo>
                <a:cubicBezTo>
                  <a:pt x="839724" y="147828"/>
                  <a:pt x="940308" y="36576"/>
                  <a:pt x="969264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450720" y="2822400"/>
            <a:ext cx="8242560" cy="689040"/>
          </a:xfrm>
          <a:prstGeom prst="rect">
            <a:avLst/>
          </a:prstGeom>
          <a:ln w="0">
            <a:noFill/>
          </a:ln>
        </p:spPr>
      </p:pic>
      <p:sp>
        <p:nvSpPr>
          <p:cNvPr id="98" name="Subtitle 2"/>
          <p:cNvSpPr/>
          <p:nvPr/>
        </p:nvSpPr>
        <p:spPr>
          <a:xfrm>
            <a:off x="1371600" y="380988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menic Ca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ae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niel Rey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C: Pass thru 1 NMO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X Gates Variation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rger Tapered Buff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ffer Regener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only loads buffe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308.18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483080" cy="287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4:1/2:1 MUX Vari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4:1 MUX = 49.79 (includes buffering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796.64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TX Gate Vari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(2INV + TX) =(306.4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ith Decoder (65.62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372.02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1981080" cy="2517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3286080" cy="2548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loads 1 INV, 2 AND = 14.49u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 A (separately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otal = 430.74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A (w/ Shifter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 3-input NANDs, 1 4-input OR, 3 inverter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otal = 465.08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457200" y="1895400"/>
            <a:ext cx="4038480" cy="393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hart 3" descr=""/>
          <p:cNvPicPr/>
          <p:nvPr/>
        </p:nvPicPr>
        <p:blipFill>
          <a:blip r:embed="rId1"/>
          <a:stretch/>
        </p:blipFill>
        <p:spPr>
          <a:xfrm>
            <a:off x="3803760" y="2279520"/>
            <a:ext cx="6608520" cy="368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159080" cy="50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Title 1" descr=""/>
          <p:cNvPicPr/>
          <p:nvPr/>
        </p:nvPicPr>
        <p:blipFill>
          <a:blip r:embed="rId3"/>
          <a:stretch/>
        </p:blipFill>
        <p:spPr>
          <a:xfrm>
            <a:off x="262080" y="268200"/>
            <a:ext cx="87058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39800" y="1523880"/>
            <a:ext cx="7566120" cy="479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>
            <a:off x="4191120" y="18288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rea of 16 Gen1 MUXes:  7,271 µ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3 Inver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8 4-input AND g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1 8-input OR 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53160" cy="338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152280" y="2786040"/>
            <a:ext cx="4145040" cy="3352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9" name="TextBox 5"/>
          <p:cNvSpPr/>
          <p:nvPr/>
        </p:nvSpPr>
        <p:spPr>
          <a:xfrm>
            <a:off x="800280" y="14479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mplemented Predecoding scheme (left) and simplified 8-input OR gate to series of 2-input NANDS and 2-input NORS (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1143000" y="1752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2 MUX Technology had total area of 5,577.44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entire ALU would have had an area of 12,204.48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Chart 10" descr=""/>
          <p:cNvPicPr/>
          <p:nvPr/>
        </p:nvPicPr>
        <p:blipFill>
          <a:blip r:embed="rId2"/>
          <a:stretch/>
        </p:blipFill>
        <p:spPr>
          <a:xfrm>
            <a:off x="1517760" y="2511360"/>
            <a:ext cx="60832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315200" cy="4865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5" name="TextBox 6"/>
          <p:cNvSpPr/>
          <p:nvPr/>
        </p:nvSpPr>
        <p:spPr>
          <a:xfrm>
            <a:off x="5562720" y="1981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7 2:1 MU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6 Buff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7" name="Chart 3" descr=""/>
          <p:cNvPicPr/>
          <p:nvPr/>
        </p:nvPicPr>
        <p:blipFill>
          <a:blip r:embed="rId2"/>
          <a:stretch/>
        </p:blipFill>
        <p:spPr>
          <a:xfrm>
            <a:off x="1596960" y="2584440"/>
            <a:ext cx="6042240" cy="36831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143000" y="1752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3 MUX Technology had total area of 2,022 micrometer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entire ALU now had an area of 8,649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hart 4" descr=""/>
          <p:cNvPicPr/>
          <p:nvPr/>
        </p:nvPicPr>
        <p:blipFill>
          <a:blip r:embed="rId1"/>
          <a:stretch/>
        </p:blipFill>
        <p:spPr>
          <a:xfrm>
            <a:off x="-6480" y="755640"/>
            <a:ext cx="8937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1" name="Rectangle 7"/>
          <p:cNvSpPr/>
          <p:nvPr/>
        </p:nvSpPr>
        <p:spPr>
          <a:xfrm>
            <a:off x="3429000" y="914400"/>
            <a:ext cx="1143000" cy="762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Screen shot 2010-04-29 at 8"/>
          <p:cNvPicPr/>
          <p:nvPr/>
        </p:nvPicPr>
        <p:blipFill>
          <a:blip r:embed="rId2"/>
          <a:stretch/>
        </p:blipFill>
        <p:spPr>
          <a:xfrm>
            <a:off x="762120" y="1289160"/>
            <a:ext cx="7619760" cy="5395680"/>
          </a:xfrm>
          <a:prstGeom prst="rect">
            <a:avLst/>
          </a:prstGeom>
          <a:ln cap="sq" w="57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57200" y="2590920"/>
          <a:ext cx="4038480" cy="1857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µ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AND G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7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Half Ad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Full Ad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69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54.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6.7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554.16 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Energ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531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9" name="Rectangle 7"/>
          <p:cNvSpPr/>
          <p:nvPr/>
        </p:nvSpPr>
        <p:spPr>
          <a:xfrm>
            <a:off x="2819520" y="5486400"/>
            <a:ext cx="1143000" cy="685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coder that used control lines to determine which function should be powered by VD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tiva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8 possible operations occurring in parallel during any given cycle – Lots of wasted pow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sirable to have only the 16 relevant bits calculat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VDD = 2.5V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8.9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ower: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25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etric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.88 *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*m*J/op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VDD = 4V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0.0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ower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89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etric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.71 *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*m*J/op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457200" y="1600200"/>
          <a:ext cx="4038480" cy="426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in μ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A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.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P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/SUB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9.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 En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.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to1 MU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.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pered Buff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7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9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ircuit (w/o MULT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.83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Energ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540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Total Metric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3.637 * 10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*m*J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inimize WC Dela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st Important Metr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iginally 2:1 Rati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 to 1.5 (in µm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ptimize P:N Rati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.33 to 1.5 (in µm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so Reduces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5" descr="INV"/>
          <p:cNvPicPr/>
          <p:nvPr/>
        </p:nvPicPr>
        <p:blipFill>
          <a:blip r:embed="rId2"/>
          <a:stretch/>
        </p:blipFill>
        <p:spPr>
          <a:xfrm>
            <a:off x="1023840" y="1600200"/>
            <a:ext cx="290520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Rectangle 7"/>
          <p:cNvSpPr/>
          <p:nvPr/>
        </p:nvSpPr>
        <p:spPr>
          <a:xfrm>
            <a:off x="3581280" y="1523880"/>
            <a:ext cx="1067040" cy="1752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657600" y="5181480"/>
            <a:ext cx="990720" cy="381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CMOS Logi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 Buffers/Inv Inpu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Gate: 14.49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 Gate: 16.15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AND+16OR=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490.24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µ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Saves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Pass Gate Logi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ffers (+7.66u) and Inverted Inputs (+3.83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Gate: 16.82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 Gate: 17.65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AND+16OR=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551.52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µ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892160" y="15228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0" name="Rectangle 7"/>
          <p:cNvSpPr/>
          <p:nvPr/>
        </p:nvSpPr>
        <p:spPr>
          <a:xfrm>
            <a:off x="3276720" y="3352680"/>
            <a:ext cx="1371600" cy="838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Mirror Adder Topology"/>
          <p:cNvPicPr/>
          <p:nvPr/>
        </p:nvPicPr>
        <p:blipFill>
          <a:blip r:embed="rId2"/>
          <a:stretch/>
        </p:blipFill>
        <p:spPr>
          <a:xfrm>
            <a:off x="1371600" y="2895480"/>
            <a:ext cx="623880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3" name="TextBox 5"/>
          <p:cNvSpPr/>
          <p:nvPr/>
        </p:nvSpPr>
        <p:spPr>
          <a:xfrm>
            <a:off x="1295280" y="1600200"/>
            <a:ext cx="63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tilizes Kill/Propagate/Generate property of bitwise addition for quick calculation of carry out b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531720" y="2743200"/>
            <a:ext cx="8080560" cy="32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6" name="TextBox 5"/>
          <p:cNvSpPr/>
          <p:nvPr/>
        </p:nvSpPr>
        <p:spPr>
          <a:xfrm>
            <a:off x="685800" y="1447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o include subtraction functionality, we simply augmented our base adder with extra hardware (17 2:1 MUXes and 9 inverters) to implement two’s complement subt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92160" y="15228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8" name="Rectangle 7"/>
          <p:cNvSpPr/>
          <p:nvPr/>
        </p:nvSpPr>
        <p:spPr>
          <a:xfrm>
            <a:off x="3352680" y="4267080"/>
            <a:ext cx="1295640" cy="762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2:04:10Z</dcterms:created>
  <dc:creator>Student</dc:creator>
  <dc:description/>
  <dc:language>en-US</dc:language>
  <cp:lastModifiedBy>Student</cp:lastModifiedBy>
  <dcterms:modified xsi:type="dcterms:W3CDTF">2010-04-29T15:36:10Z</dcterms:modified>
  <cp:revision>64</cp:revision>
  <dc:subject/>
  <dc:title>Team XOR</dc:title>
</cp:coreProperties>
</file>